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9240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9D4-01B2-4FCF-AC96-ACB97579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8699-B8D6-4793-B322-71A67F86892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- smal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nutes-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071-00BB-4301-B4FA-99829F4D84E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83FD-03A4-4401-A631-59659E693A8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them:  How might the Kidwatching might be different from the kinds of things that they have seen in schools?  Think-Pair-Share  Make sure you talk about the specifics from the Owocki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1846-91D0-4F1A-809F-D205175A358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2D6-031E-4BD0-B1FE-4235C3A9E52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- my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3F39-A79F-450A-91EF-23BF3FCA9AD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name t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15 minutes to write thi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F381-75A2-432E-89A3-519F944EEA2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in- textbook review,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-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- syllabus, expectations, stud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9CE6-CFFB-4553-9ED3-31FB27ADE2A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: Think on own; small groups; 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ay be challenging some of their thoughts on literacy this semester…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- between now and next class; write down the ways in which you use lite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hr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60A-9022-49C0-A294-B0F400AA5C4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1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assignment guidelines and show tutoring kit examples… Where to get materials?  Things to avoi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4ECB-C6C1-4427-9EEC-AC3D5627A52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9600" y="4438440"/>
            <a:ext cx="51656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92400" y="8879040"/>
            <a:ext cx="3052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0E2-73D4-42AB-9A33-CAF9273D0B9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EDE-3FC9-486B-9BA9-1B782E91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B6C-3D95-4D7E-840F-799940B2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2C4-ED04-4F04-AAE3-472B363C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C21-DE47-457C-B0B8-BF908410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B557-A857-4CEF-A4C7-E5CD240D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523E-88B4-4B46-9E9F-EE0DE5F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7818-2DDA-4B54-93FA-898B504C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BF5-9A87-4C78-B727-36F8F5CB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7DD0-6194-4D41-8CF0-E1308346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C640-7575-4AA3-AF47-977EFCB7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D457-AC73-4B06-B242-61AC4EF7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62E-F005-4A3B-96B2-30C3D5B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0714-BDD9-4E20-9836-F43D8404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4A7-70CC-4E10-878B-46B3DA9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9F65-BD91-4467-96A0-179A553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110-4F24-42BC-BF15-65E71BC9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CBB-2081-46FD-B9D1-615AE8E0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E1D-F1FE-452B-973E-38641DE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451-2500-4E3C-9658-2E8B0E00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EF9-BD38-44D4-99CE-BADA86B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52D-0B39-40C9-ABF7-4321778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53A-3D0D-4223-B45A-C4D1122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E56-98D6-4B1B-9B9C-F8E8F48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D9C-F904-411D-BC0F-56CA55A3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60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01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EC7-FBBB-4BBF-9560-084886C3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60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01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422-6B6E-4F98-B956-59B62E08280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eek 1</a:t>
            </a:r>
            <a:br>
              <a:rPr sz="4000"/>
            </a:b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28520" y="25146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Topics for Today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Course Introduc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exts/ Syllab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hat is literac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toring Kit Guidel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Something to think about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Arial"/>
              </a:rPr>
              <a:t>In small groups of 4-5, discuss you’re the readings for today.  In addition to discussing the key ideas on your I read, I thought, consider the following questions in your discussion.  We will come back as a large group to discuss you thoughts.</a:t>
            </a:r>
            <a:endParaRPr b="0" lang="en-US" sz="2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What are most salient ideas/ themes? 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do these ideas connect to teaching?To students?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do you see this ideas influencing your instruction?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01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How is this different from what you know about “school”/ “doing school”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Kidwatching”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uilding an insider view of the commun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nderstanding how lang. &amp; lit. develo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rganizing a rich environment for learn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teracting with child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bserving and documenting children’s knowled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nalyzing da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stering children’s self-evalu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gaging in self-evaluation of teac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ing evaluation to inform instr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396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urpos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mportance for teachers for supporting children’s literacy developmen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ind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ld”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participant”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Permission/Entre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mfort zon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Shut up and teach!”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aching as talker (lecturing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Teacher is knowledgeable one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Learning is a process of filling students’ mind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Literacy is a thing to be given to someone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3962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aching as listener/ observ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Teacher must learn from and about students in order to support learning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Learning must be based on what children already know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Literacy is a social practice (not a commodity or object)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For next week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KL:  Ch. 1-12; jigsaw-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Read assigned chapters to share with peers 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Use organizer- to be posted to the wiki within next 24 hour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odeswitching article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0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018"/>
                </a:solidFill>
                <a:latin typeface="Arial"/>
              </a:rPr>
              <a:t>Complete discussion notes and bring with you to class</a:t>
            </a:r>
            <a:endParaRPr b="0" lang="en-US" sz="24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No class meeting- Monday, Jan. 18</a:t>
            </a:r>
            <a:r>
              <a:rPr b="0" lang="en-US" sz="2800" spc="-1" strike="noStrike" baseline="30000">
                <a:solidFill>
                  <a:srgbClr val="cc601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Content Placeholder 5" descr="IMG00102.jpg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6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6" descr="IMG00158.jpg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About you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Please answer the following questions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Nickname ( if one)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Major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What grade level would you like to teach when you have your own classroom?  Why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Anything I should know about you so that I can help you succeed in this class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018"/>
                </a:solidFill>
                <a:latin typeface="Arial"/>
              </a:rPr>
              <a:t>What are you hoping to learn this semester?</a:t>
            </a:r>
            <a:endParaRPr b="0" lang="en-US" sz="2600" spc="-1" strike="noStrike">
              <a:solidFill>
                <a:srgbClr val="cc60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his course, the basic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urse, syllabus, textbooks, packe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What is literacy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en you think of literacy what comes to mind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ow do you define literacy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y does it matter what our personal views on literacy are as educators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utoring and Assessment Ki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ssignment guideline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The purpose of this assignment is to foster organization and preparation for literacy assessment and instruction.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You will continue to build toolkit over the next couple of week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ssessment criter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Breadth of developmental level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Variety of materials/resource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0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018"/>
                </a:solidFill>
                <a:latin typeface="Arial"/>
              </a:rPr>
              <a:t>Inclusion of required elements</a:t>
            </a:r>
            <a:endParaRPr b="0" lang="en-US" sz="2000" spc="-1" strike="noStrike">
              <a:solidFill>
                <a:srgbClr val="cc60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ue date: W classes: Feb 3</a:t>
            </a:r>
            <a:r>
              <a:rPr b="0" lang="en-US" sz="2200" spc="-1" strike="noStrike" baseline="30000">
                <a:solidFill>
                  <a:srgbClr val="009999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; TH classes: Feb 4</a:t>
            </a:r>
            <a:r>
              <a:rPr b="0" lang="en-US" sz="22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For Next Time…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Kidwatching Ch, 1(on wiki)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KT: 2-16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ovinger article (on wiki)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ile reading, complete the I read… I thought paper ( on wiki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teracy memor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iscussion of Reading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Thinking about literacy…</a:t>
            </a: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sider your past literacy experiences;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hat is the most memorable experience you have had with literacy?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i</dc:creator>
  <dc:description/>
  <dc:language>en-US</dc:language>
  <cp:lastModifiedBy>Tami</cp:lastModifiedBy>
  <cp:lastPrinted>2008-08-27T13:47:28Z</cp:lastPrinted>
  <dcterms:modified xsi:type="dcterms:W3CDTF">2010-01-13T04:18:32Z</dcterms:modified>
  <cp:revision>78</cp:revision>
  <dc:subject/>
  <dc:title>Tuesday, August 29 C&amp;I 208 Handsfield</dc:title>
</cp:coreProperties>
</file>